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8B48-2689-4473-97B0-666188A68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2934-A8EF-43C2-A16A-846672520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BF0F-4AD9-40F7-B89D-B7D5CE4BC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3312-BE87-461F-B5AA-AFDA80F0D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5CD77-C7B6-46C8-96B2-37922C3EF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26797-F9D2-492A-981E-969995C57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5A702-035C-4BA3-AFBE-7197E8A85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F14A0-43BF-48F3-B43D-EF2A416B8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73B18-2A06-434D-B01C-6B6698D80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BAE76-6E76-4533-8831-1786CDDA9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F80A1-6328-4E8F-880B-E84A9F6C2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4667-4194-4076-A5CE-583A42959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65EC2-60B6-4D3E-B86F-57C832129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F302E-5877-4168-B6EE-3CFF12EFB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A9CA7-25C2-4B54-8E9E-DA3E3E0B9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BF558-315B-4E9D-BB02-86F7A7B50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48A5F-AC2E-4B97-87E1-4505597A1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7FA3-CEFB-4A5E-AB9C-688C54055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D562-0FEB-4DD8-8D98-EAFD419F4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7DC9-5377-43A9-9E95-6D9415961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3462-EDEE-48FF-AECB-867157DB0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A143-BDFC-49B4-AB44-4DDFD4A81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74F4-425D-4FFA-AF52-8E2F4D5F7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1B82-F541-4ACA-95F3-02CE86DF5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56049-A094-4D0B-905E-4FF0733B2F57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3DE43-92C2-4D82-A297-13BA39D796E3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초의 구어산출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호흡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음 및 동시조음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말더듬 폐쇄와 관계있는 공기역학적 유형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 반복 시의 공기역학적인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되는 음소들로 성공적인 이완과 적절한 이행 때문에 구강내 기압이 상승하는 것이 반복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짧은 연장시의 공기역학적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내 기압이 점진적으로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 내에서 뒤이어 일어나는 기압의 증가와 함께 연장을 하는 동안에 조음 기관의 포즈가 순간적으로 움직이지 않는 데에 기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공기역학적 문제들은 말더듬이들의 유창한 발화에서도 일어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것은 아마 말더듬의 광범한 영향 또는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준임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을 반영할 지도 모르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드시 원인론적인 영향을 반영하는 것이 아닐 수도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산출 체계의 불협응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 시스템의 불협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연하고 통합된 구어산출이 일어나기 위해서는 전체적인 성도가 일사분란하게 작용하는 전체로서의 기능을 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긴장이 풀리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협응된 호흡을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문에서 쉽게 시작하기 위해서는 시간이 맞아야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대 윗 부분의 조음 동작들과 협응이 되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소리내어 읽는 낭독으로부터 속삭여서 읽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기류없이 읽는 순독까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시스템들의 복잡성이 감소될 때 말더듬이의 간섭도 감소되기 때문에 말더듬이들의 구어산출 비율이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및 동시조음 등의 협응에 있어서 불규칙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rregulariti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낸다는 점에서 구어산출 시스템의 불협응과 협응된 시스템에 의존하는 구어산출의 공기역학이 장애되었을 수 있다는 증거를 보여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불협응 가설은 정상적인 유창한 구어에서 성도가 작용하는 것에 관한 지식을 종합하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지식을 말더듬이들의 유창성에서 일어나는 깨어짐에 적용시키려는 노력을 나타낸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에게 호흡훈련 자체를 시키는 것보다는 오히려 어떠한 호흡 이상일지라도 성문에서 음성이 쉽게 시작하는 것과 상부의 느슨한 조음 접촉과 협응하여 다루어져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즉 치료는 이러한 복잡한 시스템의 협응과 음에서 음으로의 이행을 유연하게 하도록 해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의 복잡성을 감소시키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에 필요한 성도의 협응을 돕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비율을 낮추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 메커니즘의 협응을 단순화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유 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전되는 경향 확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이 훨씬 더 자주 양친으로부터 말더듬 유전인자를 유전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들이 자녀들에게 더욱 빈번하게 유전인자를 전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친척 중에 여성보다 남성 말더듬이들이 더 많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의 남성 친척들이 여성 말더듬이들의 여성 친척들보다 말더듬의 위험이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남성은 말더듬에 걸릴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역치가 더 낮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predisposi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본질은 결정되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와 이란성 쌍생아가 서로 공유하고 있는 특성의 정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생아에서 말더듬은 유전학적 요인이라고 강력하게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Howie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1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일란성 쌍생아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3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이란성 쌍생아를 대상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각 쌍에는 적어도 한 명이 말더듬이이거나 전에 말더듬이이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중 한 명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-twi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말더듬이일 확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7%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란성 쌍생아중 한 명이 말더듬이가 될 위험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전이론을 뒷받침하는 명백한 관련성이 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명은 말더듬이고 나머지 한 명은 정상 아동인 일란성 쌍생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discordant monozygotic twin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라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비유전적 요소가 이들 말더듬이에 적용됨을 의미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일반 인구에서 형제자매들보다 이란성 쌍생아가 말더듬이가 될 확률이 훨씬 높은 것에 대한 설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경적 유사성이 이란성 쌍생아에서 훨씬 더 크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말더듬이들의 경우에서 원인으로서 유전 이론에 상당한 신뢰성을 주고 있지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동시에 다른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마 환경적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어떤 말더듬이의 경우에 원인으로서 작용한다는 사실을 지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원인적 의미를 갖고 있는 특별한 환경적 요소들을 확인하지 못하였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여러 가지 힘으로 작용한 유전적인 가계사를 가질 수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유전적 가계사는 말더듬을 지속하게 하거나 악화시키는 것으로 작용하는 심리사회적인 요인들을 수반할 수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하지 않을 수도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임상가가 부모와 상담하기 위해서는 가능한 한 영향을 미친 변수들의 상대적인 힘에 대해서 균형있는 관점을 지지하는 것이 바람직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강한 유전의 가계사와 바람직하지 못한 환경적인 분위기를 가진 아동은 유전의 가계사와 지원적이고 협조적인 환경을 가진 아동보다 치료하기가 훨씬 더 복잡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중추신경계 기능에 대한 토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기능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 및 구어에 대한 뇌반구 지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 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 시간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정상인들보다도 반응 시간이 더 느렸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 기능과 뇌반구 지배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 집단에 중추신경계 기능에 약간의 변이가 있을 것이라고 강력하게 주장하기는 부족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발단에 어떤 역할을 한다고 하더라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역할은 아직 분명하지 않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피드백 메커니즘은 말더듬 치료에 효과적으로 사용되어져 오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의 말초 메커니즘의 기능이상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수준에서부터 구성부분의 협응에 이르기까지 모든 시스템에서 발견될 수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생리학적 연구의 한 결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치료들이 말더듬이들에게 구어 속도를 늦추도록 요구하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구어 시스템을 통합하는데 더 많은 시간을 주게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유전에 대한 연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사례에서 말더듬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조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속성을 뒷받침 해주고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대뇌기능에 관한 연구들과 말초 구어 메커니즘에 대한 연구들로부터 얻은 진전된 정보가 유전적인 요소를 증명하는 방법을 밝히는데 도움을 줄 것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심리언어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 유창성 등의 여러 가지 측면 사이에 있는 잠재적인 관계는 많이 있음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나이 든 말더듬이와 언어를 습득하고 있는 아동의 언어 사용과 관련하여 의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운론적인 것으로부터 화용론 혹은 초분절적인 요소들에까지 어느 수준에서 말더듬을 관찰할 수 있을 것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호흡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이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얕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반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불규칙적인 호흡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 산출 시의 호흡에서 말더듬이 많이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비정상적인 호흡 패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 증후의 일부분으로 보여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장애가 말더듬을 야기시킨다는 증거 없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기 전에 호흡이 장애되는 증거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27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41688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6108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소이행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에서 음으로의 유연한 이행을 하는데 어려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적인 연접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juncuture);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연스러운 쉼이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필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filler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를 사용하는 곳인 절의 시작 부분과 연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율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폐쇄나 발화에서 부적절한 곳에서 흡기를 하기 위하여 숨을 쉬는 것은 그 문장의 운율을 방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어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미론적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의 여러 가지 둘러대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ircumloc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공포를 느낀 단어나 구를 다른 말로 대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ingate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의 유창성을 증가시키는 요인들에 관한 고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운율장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prosodic defect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로 봄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침묵이나 음소에서 강세가 있는 음절로 이행하려고 시도할 때 더듬게 된다고 믿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유성음에서의 진동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undul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상대적으로 우세한 최고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rest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으로 이동하게 될 때 일어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래서 말더듬은 강세 증가를 일으키는 간헐성 장애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아동들에 있어서 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들의 언어습득 비율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장 많이 연구되고 있는 언어분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언어습득에서 평균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개월 지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동기 말더듬이들에게서 여러 가지 종류의 언어 결함을 확인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PPVT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의 길이와 복잡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ITPA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하위 검사에서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정상자들 보다 조음장애를 가질 위험율이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의 위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들에게서 깨어짐의 위치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이나 구의 시작 지점과 연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에서 여러 가지 인지적 및 생리적인 사건들이 이 지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문장에 대한 계획이 일어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보통 구어를 유창하게 하기 위해서 호흡을 하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이 시작되는 등 그 문장에서는 복잡한 순간이라고 생각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지체 아동들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전형적으로 언어를 학습하는 시기에 시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지체 아동이 언어계획과 구어 산출의 전체 시스템에서 어떤 언어학적인 스트레스를 받는 것으로 가정하는 것은 합리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습득에 대한 스트레스는 우리가 생각하는 것보다 더 오랫동안 지속될 수도 있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종속절의 삽입의 형태로 복잡한 문장을 산출하는 능력의 중요한 발달은 생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년 후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산출하는데 경미한 운동기관의 불협응을 일으킬 수 있는 유전적인 요인을 포함하는 이론을 신중하게 생각해 보는 것이 적절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화에서 깨어지는 위치는 언어적인 프로세스 및 생리학적 프로세스가 그 발화의 다음 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절의 경계에서 작용하는 지점이 더 깨어지기 쉬운 지점이라고 하는 것이 논리적일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미 언어가 발달한 나이 든 말더듬이들에 대해서 심리언어 이론에 대한 일반 상식적인 의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한 절의 경계 지점에서 쉬는 것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의 멜로디를 유지하고 문장 계획을 촉진시키기 위해 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의 통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integrity of clause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유지할 필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청자가 자기의 말을 바르게 인지할 수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를 하기 위한 흡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치 않은 절의 중간 지점이나 단어 가운데가 아니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을 시작하기 전에 흡기를 하여야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Wingate(1976): 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스트레스 활성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stress actualization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론을 치료에 직접 적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쉽게 소리를 낼 수 있도록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노래하기와 음성 씹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voice chewing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기법 사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자가 구어의 멜로디와 언어적인 강세의 효과적인 사용을 개발하도록 도와주는 지도도 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언어에 기초한 치료법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language based therapy), Stocker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프로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1980)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매우 짧은 발화에서는 유창하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길고 복잡한 발화에서는 비유창하게 되는 것 같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심리언어학적 요인의 하이라이트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악화된 말더듬이나 아동 말더듬이에게 말더듬의 순간을 설명하거나 이해하도록 돕는데 적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을 배우는 시기에 있는 화자에게 언어는 발달하고 있는 여러 가지 기능들을 복잡하게 배열한 것의 일부분이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많은 것이 유창성에 기여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한가지 요소 또는 다른 요소들에서 장애가 일어나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적인 언어 및 구어 습득이 장애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 말더듬을 가져올 수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적 기능과 구어 운동 기능의 유연한 통합이 유창한 구어에 필수적인 것으로 생각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린 말더듬이들을 위한 치료 프로그램들에서는 심리언어학적인 요소와 그 요소가 유창성에 미치는 영향이 점차로 잘 인식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chilling(1960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피험자의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 말을 하지 않고 호흡만 할 때만 정상 호흡 형태 내에서 짧고 간헐 경련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lonic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수축이 나타나는 것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Metz, Conture, &amp; Colton(1976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을 더듬은 단어 중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단어에서 그 단어의 앞에서 후두 운동의 시작과 가슴벽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hest-wall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의 시작 사이에 비동시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asynchrony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Myers(1976)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에게서 구어와 관련된 다양한 호흡의 차이점들을 발견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발화를 할 때의 호흡비율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상대적으로 더 크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사전에 녹음한 단일 단어를 따라 반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비율이 비교적 작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는 반응 앞에서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깊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하는 과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더 얕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(voice onset time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및 조음기관들의 협응과 시간맞추기를 포함한 이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CV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을 산출하기 위해서 조음기관의 동작과 관련한 음성의 시작에 관한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측정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 비해 말더듬이들이 더 느리다는 것에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구어산출 동안에 성대활동이 비정상적이라는 직접적인 정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EMG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사용하여 말을 더듬는 동안에 후두 근육들의 과잉활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내전 및 외전 근육들의 동시수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분절에 필요한 성대의 일반적인 비동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synchronous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활동 등을 밝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에 관한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외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단어부분 반복이 일어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내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의 연장이 나타나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수의 단어 폐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의 외전이 일어나는 경향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VOT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거의 동일하게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가 느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를 하는 동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대를 직접 검사하여 말더듬 순간 동안에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이 유창하게 발화를 하는 동안에도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운동들과 조음운동들과 말더듬과 관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론 유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음 및 동시조음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의 조음 노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여러 가지 방식으로 장애받을 수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인 인두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orbicularis oris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순억제하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depressor labii inferior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상반되게 활동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후두 근육조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의 상세로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superior longitudinal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에서 긴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부적절한 타이밍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이 이루어지지 않았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移行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(transition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자음을 발음하기 시작할 때와 끝낼 때의 성대 부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vocal portions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 관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유창한 구어에서 마찰음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로 또는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이행할 때 이행이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에 대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이행이 정상인보다 더 빠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과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m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에 대해 말더듬이들의 이행이 정상인들보다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공기역학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motion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공기에 의해 발휘된 힘이나 압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폐로부터 나오는 공기의 흐름은 성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양입술 등과 같은 조음기관으로부터 받는 다양한 저항에 의해서 구어를 산출하는 동안에 조정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기류비율을 측정할 수 있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러한 저항은 성도의 저항을 나타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04:51:21Z</dcterms:created>
  <dc:creator>황규탁</dc:creator>
  <dc:description/>
  <dc:language>en-US</dc:language>
  <cp:lastModifiedBy>user</cp:lastModifiedBy>
  <dcterms:modified xsi:type="dcterms:W3CDTF">2014-01-03T00:58:27Z</dcterms:modified>
  <cp:revision>8</cp:revision>
  <dc:subject/>
  <dc:title>말초의 구어산출</dc:title>
</cp:coreProperties>
</file>