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2217-30F7-475B-8251-E6705A7D4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7076-1AD0-43D6-B6EE-A436FBA80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49F7-C7BD-4DE0-BCA7-52A24AF2B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8C59-A58D-4F65-A55D-D28FB9D65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5CDAE-6035-49BC-A08C-8007F907E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D486D-66B0-48E7-9E64-F76376D26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DBF60-08DC-437D-AF19-65433D524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F85C4-6FE9-41E6-ABFC-6A5F0C48F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4D964-2F8F-49F6-A3E2-2EFAA99A8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B5B8D-3955-47F3-9700-9F86A63DC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94B9E-E1A3-4066-BD74-AC4D2D012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258A-A47D-4756-A3DE-7A77B31F4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4D54D-5C4B-45F8-A93F-7CB90623A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43B3E-313A-423E-B5FB-CD375C5F0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1DBE3-7286-4995-8606-D703AEE29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98273-0F17-4AFF-AD57-E98FAAA7C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C5DCB-F41F-42B2-9BB1-BEA230354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4B13-2D9F-4246-A674-388752957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EBBA-7054-43C3-9863-251C56DA9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409D-7A78-47DE-9B36-A1A93CB21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C0C9-7D81-48A2-8BE3-DB4E1A9E1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B5A9-4BFC-4A50-98B5-61413BE03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E8FB-B20E-48A8-BA3A-9B9F8DFAF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5BC1-D35B-4EA1-874D-13928C412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E8A96-3277-46DB-8B51-12E4D2D4A3F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9A6D2-9A12-40F4-AC47-39FDFC4C828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0066"/>
                </a:solidFill>
                <a:latin typeface="굴림"/>
              </a:rPr>
              <a:t>동산 의료원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굴림"/>
              </a:rPr>
              <a:t>06’ </a:t>
            </a:r>
            <a:r>
              <a:rPr b="1" lang="zh-CN" sz="3200" spc="-1" strike="noStrike">
                <a:solidFill>
                  <a:srgbClr val="000000"/>
                </a:solidFill>
                <a:latin typeface="굴림"/>
              </a:rPr>
              <a:t>김예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09.2.2~2009.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위치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구광역시 중구 동산동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194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물리치료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- 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호선 서문시장역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번 출구 서문시장방향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보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분 거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826920" y="2997360"/>
            <a:ext cx="360360" cy="215640"/>
          </a:xfrm>
          <a:prstGeom prst="rightArrow">
            <a:avLst>
              <a:gd name="adj1" fmla="val 50000"/>
              <a:gd name="adj2" fmla="val 4177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물리치료실 환경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시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이 오래됨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치료사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평균연령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30~40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4:4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정형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신경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소아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로 구성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복장 자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흰 셔츠나 흰 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머리는 단정히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출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늦어도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까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사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~ 1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권 한 장에 천원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퇴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4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에 도서관 보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토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일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공휴일 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A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B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 나누어 오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오후로 도서관에서 개인시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공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과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가짐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질문 거의 없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그냥 치료 하는 것 보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뒷정리하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키는 일 하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주일마다 환자 정해서 차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작성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국내논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요약 발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치료사의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lecture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금요일 아침에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Conference(8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분까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330066"/>
                </a:solidFill>
                <a:latin typeface="굴림"/>
              </a:rPr>
              <a:t>감사합니다</a:t>
            </a:r>
            <a:r>
              <a:rPr b="0" lang="en-US" sz="7200" spc="-1" strike="noStrike">
                <a:solidFill>
                  <a:srgbClr val="330066"/>
                </a:solidFill>
                <a:latin typeface="굴림"/>
              </a:rPr>
              <a:t>.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0:13:27Z</dcterms:created>
  <dc:creator>g]</dc:creator>
  <dc:description/>
  <dc:language>en-US</dc:language>
  <cp:lastModifiedBy>경상대 컴퓨터실 프린터</cp:lastModifiedBy>
  <dcterms:modified xsi:type="dcterms:W3CDTF">2009-04-09T03:28:07Z</dcterms:modified>
  <cp:revision>19</cp:revision>
  <dc:subject/>
  <dc:title>Welcome to 꿈동산</dc:title>
</cp:coreProperties>
</file>