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E40AE-37A1-4A5A-8028-C914D1148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8B408-44C2-4AF1-A550-6C5CE0C5E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66E1E-AB47-4EFB-B628-CB5B603A5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AA0FD-2E4D-4CCB-930B-4DE1B7F17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99E37-989F-49E7-9D3A-43087DC16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A083D-6B38-4FE4-933F-5AE364FFB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DDC03-45DC-4392-8521-67C2DC313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6E383-61E8-48B7-8EF3-8C51908D9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51D7F-1137-405B-ADF7-D3592B8A2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866B9-F385-41D1-B876-352845F14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FA310-C53C-410E-B4A9-EF6D273ED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2D0AE-D544-4A2A-AA8F-90E6CB5CE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714C7-A455-4C66-9FF4-B768A1115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7E681-31C6-42B9-9C4E-3315AFEE7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9FC04-E4AE-40C0-B296-C4317082E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5DB1C-F672-4D81-9516-AA0663037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34778-EB43-471E-8970-18A523BDC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BFBBB-ED0B-4E1D-AA08-64912BE9C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1D373-168C-4B04-A78B-0A2F7FE93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7F978-B205-4CAA-8F0B-125A524A7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A9CA8-18F4-4DE6-AE4A-6A596D51D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79FFF-BC0D-4C8C-BBAC-86D1A67BF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C491E-CCEB-47B5-9E02-F2E00DDC0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51D5F-11D4-408F-AB3D-58EE13576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F3B55-4681-42D2-99D8-376D02ED78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C6EF1-BC30-4286-8813-BF16AFE0148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8</a:t>
            </a: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장 교원과 교원단체 </a:t>
            </a:r>
            <a:endParaRPr b="1" lang="en-US" sz="48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복지와 교육의 본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밀그램의 연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96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 예일대학교 심리학자 조교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tanley Milgr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나치의 학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기충격 실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5 : 35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필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적 동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집단의 이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속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상부상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신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익보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지 향상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 이상의 실현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특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은 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공성과 공익성을 띠는 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합적 성격을 띤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임의단체가 아닌 법정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역할과 기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속감과 안정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을 대변하고 권익을 보호 증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적 자질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 경제적 지위 신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정책의 형성과 결정 과정에 참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다양한 복지와 혜택 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년 복지와 사회의 건전한 발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한국의 교원단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국교원단체총연합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국교직원노동조합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교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총연합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단 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논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11" name="Picture 3" descr="MCj04042630000[1]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staff</cp:lastModifiedBy>
  <dcterms:modified xsi:type="dcterms:W3CDTF">2008-12-12T05:54:22Z</dcterms:modified>
  <cp:revision>11</cp:revision>
  <dc:subject/>
  <dc:title>제 6장 교사교육 </dc:title>
</cp:coreProperties>
</file>