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0C8D8-B257-47AC-9699-868581977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4AFF8-6B95-43C6-9112-07D52EDBB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B34AD-F7BE-4E9B-B522-3701473C5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4E3AE-F7E9-48CE-8F4D-239BECF35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7604F-BB51-4A71-B299-82C7CEC20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6C131-BEAD-4238-A724-28E6BC4EC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29371-3E62-4029-AAB1-8CAF82EDF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2C7BA-FE5C-4668-835F-DF870D320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1BF5C-8173-4908-8459-5A3BE3509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3D56B-85EC-4594-9814-216462B05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4567A-FBC9-4E73-B73D-98D0BB860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5CDAE-AC71-4B1E-BFB2-53574CCCA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83089-E6F8-453D-B923-405BD38C5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413DB-DB45-452C-BCA1-20645D543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C4287-8785-4AFF-8090-D90C4EFCC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0593D-468D-4791-9F81-EBC0E483D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068D2-010B-4ED4-960F-467DD0A7B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249CA-2A13-407E-9828-903D25745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8D409-D47B-469F-A30F-CB38868B3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9FE9C-9553-4746-9EE6-C79263C83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949FA-83BD-497B-A152-DC6A9A159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FC547-C37C-45BA-BFBF-63689D6FF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02649-473E-42A4-B0D1-C4D6D3FB9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A86BE-75A8-43C7-B1E0-E351B0FDE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343A0-98DE-418C-8E46-C4305761F52A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D1AF7-2FA1-4FE0-B64A-620AE43BF505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장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0" algn="just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말더듬의 이론과</a:t>
            </a:r>
            <a:endParaRPr b="0" lang="en-US" sz="48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0" algn="just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치료적인 의미</a:t>
            </a:r>
            <a:endParaRPr b="0" lang="en-US" sz="4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투사검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성검사 결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Andrews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등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1983)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주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과 정상인들 사이의 차이점이 원인이라면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 차이점들은 아동이 말을 더듬기 시작하기 전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더듬기 시작할 때 차이점이 나타나야 함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에 그 차이점들은 말더듬이 없어지지 못하게 하는 요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일으키는 요인으로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론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사회부적응은 말더듬의 원인이라기 보다는 말더듬의 결과일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에 대한 결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적인 부적응이 말더듬의 원인이 되는 것은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말더듬이들은 자신의 말더듬 행동에 반응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청자들은 그 말더듬이에게 반응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서가 원인적 작인이 되지 않고도 말더듬이를 둘러싸고 있는 정서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emotionality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 있을 수도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모든 말더듬이들에게서 정서성이 말더듬을 둘러싸고 있다는 사실도 증명되지 않았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의 </a:t>
            </a:r>
            <a:r>
              <a:rPr b="1" lang="ko-KR" sz="3200" spc="-1" strike="noStrike">
                <a:solidFill>
                  <a:srgbClr val="ffcc66"/>
                </a:solidFill>
                <a:latin typeface="휴먼고딕"/>
                <a:ea typeface="휴먼고딕"/>
              </a:rPr>
              <a:t>치료적인 의미</a:t>
            </a:r>
            <a:endParaRPr b="0" lang="en-US" sz="32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고딕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치료는 의미적으로 정신분석이나 심리치료의 형태를 이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러한 형태의 치료가 말더듬을 효과적으로 치료하지 못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방법이 모든 혹은 대부분의 말더듬이들에게 좋은 치료방법이라는 생각에 너무 집착은 금물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런 이론적인 틀을 아동들의 치료에 적용한다면</a:t>
            </a: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이 자기의 감정과 그 환경에 있는 사람들과 상호작용을 하는 어떤 형태의 유희치료일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현재의 치료 추세</a:t>
            </a: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를 직접적으로 다루는 기법과 언어중심 치료 쪽으로 초점이 맞추어 지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6. Van Riper: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치료만으로는 좋은 결과를 가져올 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진단기인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Wendell Johnson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들의 가장 가까운 환경에 있는 사람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보통 한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양쪽 부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라고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진단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에야 말더듬이 된다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부모들의 귀에서 시작된다</a:t>
            </a:r>
            <a:r>
              <a:rPr b="0" lang="ko-KR" sz="2400" spc="-1" strike="noStrike">
                <a:solidFill>
                  <a:srgbClr val="eaeaea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라고 진단받기 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초기 아동기에서 경험하는 정상적인 비유창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와 아동 양육에 완전무결주의적인 태도를 가진 열성적인 부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들의 구어산출에 지나친 관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진단기인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동적인 구어 행위가 매우 의식적인 행위로 되어 가는 결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신의 구어산출 방법에 대한 자각 증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긴장 고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기 회피 반응 증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비평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부모들이 더 완전무결주의적으로 반응하였다는 것을 증명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부모들이 더 신경증적이라는 것도 증명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진단이론의 발전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상호작용가설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청자의 상호작용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아마 화자의 병리적인 비유창성에 민감한 청자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의 병리적인 비유창성의 정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 자신의 병리적인 비유창성과 타인의 평가적인 반응에 대한 화자의 민감성  등을 포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미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 치료는 간접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상담을 통하여 부모들의 완전무결주의적인 태도를 변화시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나이가 들고 증후가 악화된 말더듬이들의 치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기회피라는 개념에 근거한 치료방법을 개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에게 의미적인 재오리엔테이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emantic reorientation)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즉 자기 자신에 대한 사려깊은 재평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를 들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양 입술이나 호흡으로 어떻게 말이 흘러나오는 것을 막고 있는가를 재평가하도록 제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 자신에게 하고 있는 것을 생각하기보다는 말더듬이 일어나면 자기의 유창한 구어산출을 방해하고 있는 것이 무엇인가를 생각하도록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러한 의미적인 변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emantic alteration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유창성과 비유창성이 말더듬이와 정상인을 이분하는 의미로 보지 않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게도 비유창성이 일어나는 계속적인 의미라는 것을 깨닫도록 촉진시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게서 정상적인 비유창성을 평가하게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예기 투쟁 가설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Bloodstein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원인에 관한 이론이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의 순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the moment of stuttering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에 관한 가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말이 원래부터 어려운 것이라고 믿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구어를 특별한 주의와 노력이 요구되는 것으로서 받아들이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Wendell Johnson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의 예기 회피 반응에 부분적으로 뿌리를 두고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예기 투쟁 가설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예기 투쟁은 구어를 잘 산출하려는 아동의 노력에서 발달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 가설의 계속성 측면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아동의 말더듬은 정상적인 구어 및 언어 습득에서 정상적인 비유창성에 그 근원을 두고 있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말더듬이의 증후는 정상적인 비유창성의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극단적인 정도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"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연구가 어려운 이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제안된 이론이 너무 많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해진 연구가 너무나 많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구 결과가 종종 상반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을 만족스럽게 설명하는 이론 없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 치료에 대한 튼튼한 이론적인 기초는 부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4" name="00418.mp3" descr=""/>
          <p:cNvPicPr/>
          <p:nvPr/>
        </p:nvPicPr>
        <p:blipFill>
          <a:blip r:embed="rId1"/>
          <a:stretch/>
        </p:blipFill>
        <p:spPr>
          <a:xfrm>
            <a:off x="864396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로서 자기 자신에 대한 자신감을 증가시키는 것에 목표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자신감을 증가시키는 법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한 날과 비유창한 날을 다루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성을 강화시키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부모들의 어떠한 요구나 제한적인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혹은 완전무결주의적인 경향을 다루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등에 관한 매우 일상적인 상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아동들이 어려움을 예견하는 것을 예방하거나 감소시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치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F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운동계획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제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7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장 참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란 기법에서 사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Johnson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의미론적인 재교육과 같은 간접적인 방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고쳐 배우는 과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(unlearning proc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의미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가 어려운 것이라는 믿음을 고쳐 배우도록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사람은 말을 하기 위해서는 열심히 노력하고 투쟁해야 된다는 것을 고쳐 배우도록 도울 필요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학습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대표적인 학습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원이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two-factor theory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작적 조건화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접근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회피 갈등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고전적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조작적 조건화 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기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------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UCS)                      (UCR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종소리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+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기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NS)    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종소리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---- 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S)                           (CR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원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Brutten &amp; Shoemaker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전적 조건화 및 조작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혹은 도구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건화 이론들을 결합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의 발생과 구어와 관련된 불안은 고전적 조건화로 설명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합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차성 혹은 부차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증후의 발달을 조작적 조건화로 설명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스트레스가 있는 환경적인 사건에 의해서 야기되는 부정적인 정서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붕괴는 정서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혹은 자율신경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스트레스 혹은 각성 상태 하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러한 붕괴는 부정적인 정서와 동시에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정적인 정서는 부수적으로 일어나는 구어의 깨어짐과 함께 스트레스가 있는 환경적인 사건이나 실마리와 짝지어지거나 재연됨으로써 조건화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고전적 조건화는 조건화된 자극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환경적인 스트레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과 무조건화 자극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정적인 정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 짝지어지는 것을 의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유창한 반응은 다른 비슷한 장면들에 일반화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동은 그 장면들을 통제하기 위하여 구어시도를 하기 위한 노력을 많이 하기 시작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8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기관들을 긴장하게 하거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을 밖으로 내기 위해서 발을 차거나 해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 상태를 더 악화시킨 연관된 특성을 사용하기 시작하게 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9. Brutten &amp; Shoemak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는 이러한 연관된 증후들을 조정적인 혹은 문제를 해결하는 행동들이라고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0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행동들이 일시적으로 긴장을 풀어 주기 때문에 말더듬이들에게 간헐적으로 효과적이거나 보상을 주는 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행동은 그 조건을 강화시킴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합된 증후들의 학습은 그 증후의 효용성의 가변성에 따라 강화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2. Shames &amp; Sherrick(1963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말더듬은 조작적 조건화만의 결과로 일어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의 정상적인 비유창성은 부모들의 관심에 의해서 강화를 받았을지도 모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결과로써 정상적인 비유창성이 증가될 수 있으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면 벌을 받게 되고 결과적으로 정상적인 비유창성이 말을 계속하려고 투쟁을 하거나 말을 그만두고 침묵을 하는 선택을 하게 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보다 새로운 말더듬 형태는 벌을 받지 않게 됨으로써 부적으로 강화를 받지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마 시간이 지나면 더 심한 벌을 초래할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4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래서 반복과 연장은 변동강화 스케줄을 통해서 학습되고 강화되어지는 어떤 형태로 악화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7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병리적인 비유창성을 나타낼 때 자기의 말을 듣는 사람으로부터 더 많은 관심을 받기 때문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에 대한 부적 강화와 더불어 정적 강화도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8. Shames &amp; Sher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어떠한 종류의 정상적인 비유창성이라도 어떤 형태의 강화에 의하여 증가시킬 수 있거나 감소시킬 수 있는 하나의 조작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operant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으로써 생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9. Shames &amp; Sher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관점은 보편적으로는 받아들여지고 있지 않지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분적으로는 받아들여지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5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0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조작적 절차가 예언적으로 말더듬에 영향을 미친다는 행동수정 연구의 증거가 전적으로 명확하게 나타나는 것은 아니기 때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에 대한 조작적 연구가 많음에도 불구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원인과 그러한 조작적 조건화와의 관계는 분명하게 밝혀지지 않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치료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경험 및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혹은 이론에 근거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Wingate: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포괄적이고 일관성있는 이론이 이루어질 때까지 기다렸다가 치료를 시작할 수는 없다</a:t>
            </a:r>
            <a:r>
              <a:rPr b="0" lang="ko-KR" sz="3200" spc="-1" strike="noStrike">
                <a:solidFill>
                  <a:srgbClr val="eaeaea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임상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과학적인 지식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+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론들의 강점과 약점들을 평가 가능해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본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세가지 요인 사이에 어떤 상호작용이 있을 것이라는 것을 가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접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회피 갈등이론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Sheehan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하려는 동기와 하지 않으려는 동기 사이에 말려들게 된다고 가정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하려는 동기가 강하다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가 말을 할 것이고 또 유창성을 경험할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회피동기가 더 강하다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는 말을 하지 않고 조용히 있을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은 이 두개의 동기가 꼭 같은 힘으로 작용하고 있을 때 일어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는 이 두개의 동기 사이에서 흔들리게 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접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회피 갈등이론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계속 말하지 못할 경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좌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죄의식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수치심으로 고통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두 배의 접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회피 갈등이 생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갈등은 단어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장면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서표현의 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인관계의 수준들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부분의 말더듬이들이 복합적인 갈등을 가짐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학습이론의 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고전적인 조건화는 자율 신경계의 각성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arousal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과 그것에 수반되는 정서적인 불쾌함을 포함한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그러므로 특정한 장면에서 환자의 정서적인 상태를 체계적으로 감소시키기 위하여 고안된 둔감절차들을 수행한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학습이 특정한 행동의 강화에 달려 있다는 조작적 조건화에 대한 치료적인 접근방법은 보통 유창성을 강화하거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벌하거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수정하는 것이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체계적 둔감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근육긴장이완 및 불안과 같은 고전적으로 조건화된 반응의 체계적인 둔감화를 결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두려움을 가장 적게 느낀 장면에서 두려움을 가장 많이 느낀 장면에까지 단계적으로 말하는 장면을 계속 상상하는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상상하는 각 장면이 두려운 반응없이 견딜 수 있을 단계에까지 계속한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차 증후는 결과적으로 그 증후에 대한 반응을 억제하도록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reactive inhibition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설계된 많은 연습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어떤 행동을 소거하기 위하여 강화없이 그 행동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자발적이고 반복적으로 산출하는 것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으로서 치료된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학습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동수정법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전기자극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타임아웃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성 형성 기법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fluency shaping techniques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동수정의 영향 받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한 구어를 강화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작적 원리를 사용한 프로그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사회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명조"/>
              </a:rPr>
              <a:t>심리역학적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2. 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진단기인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3. 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예기 투쟁 가설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   </a:t>
            </a:r>
            <a:r>
              <a:rPr b="1" lang="en-US" sz="3200" spc="-1" strike="noStrike">
                <a:solidFill>
                  <a:srgbClr val="eaeaea"/>
                </a:solidFill>
                <a:latin typeface="HCI Hollyhock"/>
                <a:ea typeface="휴먼고딕"/>
              </a:rPr>
              <a:t>(anticipatory struggle hypothesis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HCI Hollyhock"/>
                <a:ea typeface="휴먼고딕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습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원이론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two-factor theory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조작적 조건화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3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접근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회피 갈등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9" name="00419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개인의 적응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신분석적인 사고와 관련된 심한 장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병리학 전공 학생들의 말더듬의 원인에 관한 추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부모의 높은 요구수준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에 대한 높은 기대 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적인 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서적인 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신경증 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02" name="00420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병리학 전공 학생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1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년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박사과정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에 대상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CATS  </a:t>
            </a: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설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문지 분석 결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대부분의 말더듬이들은 심리적인 문제가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0%; St. Louis &amp; Lass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4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대부분의 말더듬이들은 열등감을 가지고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 58%, St. Louis &amp; Lass 71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은 어떤 성격특성을 가지고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 49%, St. Louis &amp; Lass 54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론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1. Cooper-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모순성이 증명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;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임상가들이 말더듬에 대한 잘못된 인상을 계속 가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이 어떤 특징적인 성격특성을 가지고 있지 않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전형적인 성격장애 또한 가지고 있지 않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의 근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162828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신분석학적 틀에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성격 및 심리 사회적 발달에 대한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Freud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관점에 근거를 둠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Freud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아동발달에 구순기와 항문기의 중요성 강조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일부 정신분석학자들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 시기 전후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. Coriat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구강기 고착의 결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5. Glauber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는 충동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id)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과 초자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superego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사이에 갈등을 겪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6. Travis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하는 것에 관한 말더듬이들의 상반감정병존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ambivalence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때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7. Barbara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활장면 속에서 부적당한 대인관계와 적응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투사검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성검사 결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Rorschach Test / Minnesota Multiphasic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Personality Inventory(MMPI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의 성격이나 심리 구조가 정상자들과 차이 여부에 연구 관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(Van Riper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요약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들을 정확하게 판단하기 어려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가 갖추어야 할 기본적인 기준을 충족시킨 연구는 많지 않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상호모순되는 연구들이 많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신경증이라는 단일 원인으로써 말더듬이 된 경우는 없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6T07:03:17Z</dcterms:created>
  <dc:creator>황규탁</dc:creator>
  <dc:description/>
  <dc:language>en-US</dc:language>
  <cp:lastModifiedBy>user</cp:lastModifiedBy>
  <dcterms:modified xsi:type="dcterms:W3CDTF">2013-11-13T06:49:04Z</dcterms:modified>
  <cp:revision>16</cp:revision>
  <dc:subject/>
  <dc:title>제 2 장</dc:title>
</cp:coreProperties>
</file>